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2292-831B-414D-96D6-14200EDAE4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5314-C97F-4F3E-8E3D-6603A8665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DC63-91E8-4526-845E-A58A2EE4F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F558-0A8D-4E14-AFCE-E461881C0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E41E-BA38-4D09-81EC-01702770E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9CE-F5AE-4B25-93B1-D73802FC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A38-B494-4568-99E0-0C584895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D20-B705-4B1C-91D8-02970ADF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354-B936-4509-86BD-78B07B52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FECC-EFED-4334-804E-C787388B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2F42-A03C-4AD4-B945-E1572F05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C61E-A8A3-47D7-A420-09949BE6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2C7A-88D8-4278-835D-BF6F9D93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B43F-DEBB-416C-BA01-B17333A9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FEF4-AA97-474A-B643-C2F2C382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9622-C693-47FE-87BA-B8B67AB6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C5D-BE82-4E10-8D4D-5744512B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2AD7-E884-4866-B81F-B749AD5E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916A-3FC0-489A-8454-97E0A13E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358A-143A-4E6C-BC81-1020C21A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9C20-34BD-458D-8479-F439CB6A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5865-11A6-426B-8B83-DEE39B35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BE2-1E5B-4F0A-9A27-24E09CC1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F10-B8EC-45C1-BFE6-93924BFF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A674-A9EB-486F-9D18-AFE1CBE3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ACF-8DE4-4C76-BB8F-AD33FAF0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7D0-955B-43F2-80F4-6775DC2F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05F-08BE-4F95-9FC8-916765D9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FA95-27D2-4FFD-9B7B-43C8912D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0840" y="-4680"/>
                <a:ext cx="978120" cy="6825960"/>
              </a:xfrm>
              <a:prstGeom prst="pie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61200" y="1692360"/>
                <a:ext cx="978120" cy="49860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3000" y="1287000"/>
                <a:ext cx="978120" cy="50364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3000" y="152640"/>
                <a:ext cx="978120" cy="30384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61200" y="985320"/>
                <a:ext cx="978120" cy="34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6600" y="681840"/>
                <a:ext cx="977760" cy="43236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3000" y="371160"/>
                <a:ext cx="990360" cy="37548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0680" y="3933360"/>
                <a:ext cx="978120" cy="49860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7520" y="3539880"/>
                <a:ext cx="977760" cy="50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3280" y="2396880"/>
                <a:ext cx="978120" cy="30384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7520" y="3227760"/>
                <a:ext cx="977760" cy="34668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2920" y="2928240"/>
                <a:ext cx="978120" cy="4276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3280" y="2614320"/>
                <a:ext cx="990360" cy="375120"/>
              </a:xfrm>
              <a:prstGeom prst="pie">
                <a:avLst/>
              </a:pr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4400"/>
                <a:ext cx="978120" cy="498600"/>
              </a:xfrm>
              <a:prstGeom prst="pie">
                <a:avLst/>
              </a:pr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5440" y="4550040"/>
                <a:ext cx="977760" cy="50220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7520" y="5655600"/>
                <a:ext cx="977760" cy="30276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160" y="6190560"/>
                <a:ext cx="345600" cy="97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4160"/>
                <a:ext cx="978120" cy="42732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3840"/>
                <a:ext cx="990360" cy="37512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24F5-130F-4DCB-BA60-955E54632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prstGeom prst="pie">
                <a:avLst/>
              </a:pr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prstGeom prst="pie">
                <a:avLst/>
              </a:pr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prstGeom prst="pie">
                <a:avLst/>
              </a:pr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DC4F-087D-4422-AE68-937234B15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378000" y="298440"/>
            <a:ext cx="8570880" cy="232884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3" descr=""/>
          <p:cNvPicPr/>
          <p:nvPr/>
        </p:nvPicPr>
        <p:blipFill>
          <a:blip r:embed="rId2"/>
          <a:stretch/>
        </p:blipFill>
        <p:spPr>
          <a:xfrm>
            <a:off x="1158840" y="3882960"/>
            <a:ext cx="6411960" cy="176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2" descr=""/>
          <p:cNvPicPr/>
          <p:nvPr/>
        </p:nvPicPr>
        <p:blipFill>
          <a:blip r:embed="rId1"/>
          <a:stretch/>
        </p:blipFill>
        <p:spPr>
          <a:xfrm>
            <a:off x="1822320" y="201600"/>
            <a:ext cx="6870960" cy="1633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2514600" y="2133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x0016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Picture 2.png"/>
          <p:cNvPicPr/>
          <p:nvPr/>
        </p:nvPicPr>
        <p:blipFill>
          <a:blip r:embed="rId2"/>
          <a:stretch/>
        </p:blipFill>
        <p:spPr>
          <a:xfrm>
            <a:off x="1447920" y="1263600"/>
            <a:ext cx="7099200" cy="526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1163520" y="201600"/>
            <a:ext cx="7785360" cy="1401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2133720" y="3962520"/>
            <a:ext cx="647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  <a:ea typeface="Papyrus"/>
              </a:rPr>
              <a:t>Create a Classroom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  <a:ea typeface="Papyrus"/>
              </a:rPr>
              <a:t>Select Student Id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  <a:ea typeface="Papyrus"/>
              </a:rPr>
              <a:t>Create a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  <a:ea typeface="Papyrus"/>
              </a:rPr>
              <a:t>Upload to Voiceth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  <a:ea typeface="Papyrus"/>
              </a:rPr>
              <a:t>Add a Title and External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  <a:ea typeface="Papyrus"/>
              </a:rPr>
              <a:t>Add Audio and Text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Picture 4.png"/>
          <p:cNvPicPr/>
          <p:nvPr/>
        </p:nvPicPr>
        <p:blipFill>
          <a:blip r:embed="rId2"/>
          <a:stretch/>
        </p:blipFill>
        <p:spPr>
          <a:xfrm>
            <a:off x="1905120" y="1143000"/>
            <a:ext cx="6191280" cy="281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1212840" y="450720"/>
            <a:ext cx="7937640" cy="1274760"/>
          </a:xfrm>
          <a:prstGeom prst="rect">
            <a:avLst/>
          </a:prstGeom>
          <a:ln w="0">
            <a:noFill/>
          </a:ln>
        </p:spPr>
      </p:pic>
      <p:pic>
        <p:nvPicPr>
          <p:cNvPr id="144" name="Content Placeholder 5" descr="Picture 5.png"/>
          <p:cNvPicPr/>
          <p:nvPr/>
        </p:nvPicPr>
        <p:blipFill>
          <a:blip r:embed="rId2"/>
          <a:srcRect l="0" t="-35173" r="0" b="-35173"/>
          <a:stretch/>
        </p:blipFill>
        <p:spPr>
          <a:xfrm>
            <a:off x="4419720" y="1143000"/>
            <a:ext cx="4525920" cy="49528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 rot="20860800">
            <a:off x="1129320" y="2819520"/>
            <a:ext cx="3502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  <a:ea typeface="Papyrus"/>
              </a:rPr>
              <a:t>Blo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  <a:ea typeface="Papyrus"/>
              </a:rPr>
              <a:t>Regi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  <a:ea typeface="Papyrus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Title 1" descr=""/>
          <p:cNvPicPr/>
          <p:nvPr/>
        </p:nvPicPr>
        <p:blipFill>
          <a:blip r:embed="rId1"/>
          <a:stretch/>
        </p:blipFill>
        <p:spPr>
          <a:xfrm>
            <a:off x="1163520" y="450720"/>
            <a:ext cx="7785360" cy="12747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 rot="20979000">
            <a:off x="1500480" y="3156120"/>
            <a:ext cx="433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  <a:ea typeface="Papyrus"/>
              </a:rPr>
              <a:t>D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  <a:ea typeface="Papyrus"/>
              </a:rPr>
              <a:t>Don’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Picture 3.png"/>
          <p:cNvPicPr/>
          <p:nvPr/>
        </p:nvPicPr>
        <p:blipFill>
          <a:blip r:embed="rId2"/>
          <a:stretch/>
        </p:blipFill>
        <p:spPr>
          <a:xfrm>
            <a:off x="4419720" y="1523880"/>
            <a:ext cx="4419360" cy="495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181848"/>
              </a:solidFill>
              <a:latin typeface="Times New Roman"/>
            </a:endParaRPr>
          </a:p>
        </p:txBody>
      </p:sp>
      <p:pic>
        <p:nvPicPr>
          <p:cNvPr id="150" name="Picture 13" descr="Picture 1.png"/>
          <p:cNvPicPr/>
          <p:nvPr/>
        </p:nvPicPr>
        <p:blipFill>
          <a:blip r:embed="rId1"/>
          <a:stretch/>
        </p:blipFill>
        <p:spPr>
          <a:xfrm>
            <a:off x="1905120" y="1219320"/>
            <a:ext cx="6476760" cy="485460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4" descr=""/>
          <p:cNvPicPr/>
          <p:nvPr/>
        </p:nvPicPr>
        <p:blipFill>
          <a:blip r:embed="rId2"/>
          <a:stretch/>
        </p:blipFill>
        <p:spPr>
          <a:xfrm>
            <a:off x="1060560" y="225360"/>
            <a:ext cx="8315280" cy="15796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2438280" y="6248520"/>
            <a:ext cx="61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  <a:ea typeface="Papyrus"/>
              </a:rPr>
              <a:t>http://voicethread.com/?#q.b94440.i480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8345520" cy="13903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533520" y="358128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Active Living Alphabet.  Retrieved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http://voicethread.com/?#q.b94440.i4807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Using Voicethread to Communicate and Collabora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Retrieved from http://plugmein.edublogs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Voicethread. Retrieved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http://learningweb2.wikispaces.com/Voice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Voicethread Dos and Don’ts: A Student Introduction.  Retrieved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http://digitallyspeaking.pbwiki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981000" y="176040"/>
            <a:ext cx="81565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23:51:06Z</dcterms:created>
  <dc:creator>Brenda Monick</dc:creator>
  <dc:description/>
  <dc:language>en-US</dc:language>
  <cp:lastModifiedBy>kay</cp:lastModifiedBy>
  <cp:lastPrinted>2011-02-15T17:56:11Z</cp:lastPrinted>
  <dcterms:modified xsi:type="dcterms:W3CDTF">2011-02-15T18:00:33Z</dcterms:modified>
  <cp:revision>13</cp:revision>
  <dc:subject/>
  <dc:title>Voice Thread</dc:title>
</cp:coreProperties>
</file>